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860-928A-4439-9715-A66F1935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1AC-B220-4735-938A-6AA350E7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853-4DDC-4135-B0A4-34400C6A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E8D-231E-4411-ABDF-CF39E219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4E2-1BD9-490D-9295-4874DD2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F31-E4E0-4D6D-A1F2-C2C0403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4D0-C047-4095-9292-01D0D51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FAD-3122-42DE-8D63-F513002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452-9CDE-4465-904B-7CF0E333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2B0-F547-4501-AA74-583E054A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C46-A982-4199-8B20-59E03FB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551-54A1-4351-9091-C9C75FA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2E9-C272-4092-B3D3-AFEBE594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35772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ause - </a:t>
            </a:r>
            <a:r>
              <a:rPr b="1" lang="en-NZ" sz="72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tains a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916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a complete senten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EG: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The fox </a:t>
            </a:r>
            <a:r>
              <a:rPr b="1" lang="en-NZ" sz="5400" spc="-1" strike="noStrike">
                <a:solidFill>
                  <a:srgbClr val="cc0099"/>
                </a:solidFill>
                <a:latin typeface="Arial"/>
              </a:rPr>
              <a:t>jumped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on the 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1:10:15Z</dcterms:modified>
  <cp:revision>34</cp:revision>
  <dc:subject/>
  <dc:title>Simile</dc:title>
</cp:coreProperties>
</file>